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462-CF3F-47F4-A76A-638FACFD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722-34E0-4BF6-915B-AEE83C71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93E-A1CA-48A0-A6E8-A35FC2EA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77B-CF67-4F16-A84C-253D1156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715-4F1A-43BB-B83D-76F3FEDB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20B-F327-4170-BE7D-926E13D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4B4-7425-40A6-ACAD-4192190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03B-5A15-4AEA-86F4-8FF50A6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EA3-6BAA-4FC9-B954-55BF3AD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8EB-4B77-4BCC-876A-D76A154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82B-3CD7-4AE8-B2B0-D6C326A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036-EA92-4592-A10D-72DFF8F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322-7939-4922-88C0-FF27D0B9D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ll.fll.purdue.edu/JapanProj/FLClipart/" TargetMode="External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6 NH(602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7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rooms in the apar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90840" y="3638520"/>
            <a:ext cx="56008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924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47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90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54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83808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gusta más ____ gorra   az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553080" y="914400"/>
            <a:ext cx="2362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004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__     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muy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s gusta _____ casa 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8380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no es gran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go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am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am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86120" y="1477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904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4640" y="3611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7680" y="41911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2296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             _______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s           _______ plum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980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204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ay OUR i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tivos Poses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l-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los-Ellas-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888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0892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44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32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5880" y="3352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5360" y="33526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51000" y="3900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096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3120" y="4357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2960" y="43578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09280" y="48909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7720" y="48909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(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5240" y="5410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8880" y="54100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 sombrero es de color caf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01:03Z</dcterms:created>
  <dc:creator>Helen Zumaeta</dc:creator>
  <dc:description/>
  <dc:language>en-US</dc:language>
  <cp:lastModifiedBy>Helen Zumaeta</cp:lastModifiedBy>
  <dcterms:modified xsi:type="dcterms:W3CDTF">2012-12-17T21:05:16Z</dcterms:modified>
  <cp:revision>10</cp:revision>
  <dc:subject/>
  <dc:title>Me llamo _________ Clase 6nh/il La fecha es el 4 de abril del 2011</dc:title>
</cp:coreProperties>
</file>